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139-A9A8-4351-A884-6545DA39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158F-D85B-4607-B39F-FCEE2458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0E3-F065-4DDB-99E9-FA62F4F7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B9D5-5215-4FF2-9D11-8D92209F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C074-7CA4-410D-B509-7C659456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AF9-E247-47AF-BD0E-241FF0BA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4DA9-F76D-4332-8A42-E890FAA0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871C-923C-4D01-B50A-278FF68D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826F-F875-4A54-8152-C4C23C10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D062-079E-4D49-BBAB-067BE214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D05D-EE1D-43DD-9E47-B6F9B4CE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83A2-4C29-42EE-81E2-2BE386CE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9560-FA0B-47FA-95B7-DA766A7975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2285640"/>
            <a:ext cx="6095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esson21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Books or Comput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4920" y="685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冀教版 八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6"/>
          <p:cNvSpPr/>
          <p:nvPr/>
        </p:nvSpPr>
        <p:spPr>
          <a:xfrm>
            <a:off x="457200" y="1328760"/>
            <a:ext cx="830592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i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2209680" y="1625760"/>
            <a:ext cx="6400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the printing press _________, it changed the world. The ________ printing press can print books ________, and makes it possible for the _______ person to have ______ access to read boo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439360" y="220968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ppe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733640" y="281952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d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705720" y="335268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quic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286360" y="441972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6933960" y="4419720"/>
            <a:ext cx="9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6"/>
          <p:cNvSpPr/>
          <p:nvPr/>
        </p:nvSpPr>
        <p:spPr>
          <a:xfrm>
            <a:off x="533520" y="1219320"/>
            <a:ext cx="83055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2286000" y="1523880"/>
            <a:ext cx="6400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 and the Internet changed the world. They made it possible for a new kind of book: the _______ books. Traditionally books could only be _______ and sold at the store, but today you can buy and _______ books 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196880" y="320040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048120" y="42670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429720" y="5334120"/>
            <a:ext cx="7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6324480" y="5410080"/>
            <a:ext cx="12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589120" y="16002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61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Read the lesson and put the sentences in correct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34136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took a long time to write just one 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made it possible for common people to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o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-book appe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had no books, and they sha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nowledge by telling s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printing press appea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download books from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paper, people began to write down st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304920" y="12193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"/>
          <p:cNvSpPr/>
          <p:nvPr/>
        </p:nvSpPr>
        <p:spPr>
          <a:xfrm>
            <a:off x="304920" y="137160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5"/>
          <p:cNvSpPr/>
          <p:nvPr/>
        </p:nvSpPr>
        <p:spPr>
          <a:xfrm>
            <a:off x="304920" y="205740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304920" y="38098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/>
          <p:cNvSpPr/>
          <p:nvPr/>
        </p:nvSpPr>
        <p:spPr>
          <a:xfrm>
            <a:off x="304920" y="320040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/>
          <p:cNvSpPr/>
          <p:nvPr/>
        </p:nvSpPr>
        <p:spPr>
          <a:xfrm>
            <a:off x="304920" y="487692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304920" y="5486400"/>
            <a:ext cx="380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0"/>
          <p:cNvSpPr/>
          <p:nvPr/>
        </p:nvSpPr>
        <p:spPr>
          <a:xfrm>
            <a:off x="304920" y="6095880"/>
            <a:ext cx="380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1"/>
          <p:cNvSpPr/>
          <p:nvPr/>
        </p:nvSpPr>
        <p:spPr>
          <a:xfrm>
            <a:off x="304920" y="19051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2"/>
          <p:cNvSpPr/>
          <p:nvPr/>
        </p:nvSpPr>
        <p:spPr>
          <a:xfrm>
            <a:off x="304920" y="30481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3"/>
          <p:cNvSpPr/>
          <p:nvPr/>
        </p:nvSpPr>
        <p:spPr>
          <a:xfrm>
            <a:off x="304920" y="3657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4"/>
          <p:cNvSpPr/>
          <p:nvPr/>
        </p:nvSpPr>
        <p:spPr>
          <a:xfrm>
            <a:off x="304920" y="476424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5"/>
          <p:cNvSpPr/>
          <p:nvPr/>
        </p:nvSpPr>
        <p:spPr>
          <a:xfrm>
            <a:off x="304920" y="5943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6"/>
          <p:cNvSpPr/>
          <p:nvPr/>
        </p:nvSpPr>
        <p:spPr>
          <a:xfrm>
            <a:off x="304920" y="53737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609480" y="1752480"/>
          <a:ext cx="7696080" cy="434340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1765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alk with your partn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f5a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f5a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f5a9"/>
                    </a:solidFill>
                  </a:tcPr>
                </a:tc>
              </a:tr>
              <a:tr h="1288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f5a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f5a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f5a9"/>
                    </a:solidFill>
                  </a:tcPr>
                </a:tc>
              </a:tr>
              <a:tr h="1289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-b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f5a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f5a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f5a9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14600" y="12189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ork in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61048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ts val="59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like reading paper books or electronic books?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ts val="59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lk with your members in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1371600" y="2819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No matter what we hav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 computer, a tablet, a laptop, an e-reader or a real book, keep on read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5120" y="13712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8880" y="243540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 you like reading paper book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 electronic books? Why? Tal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ith your partner and make up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alogu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ow can we get knowled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828800" y="3578400"/>
            <a:ext cx="510552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y talking with oth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y watching TV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y reading boo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y reading e-boo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2ce6f0cdb75aaecea25cef0ec8f7c015"/>
          <p:cNvPicPr/>
          <p:nvPr/>
        </p:nvPicPr>
        <p:blipFill>
          <a:blip r:embed="rId1"/>
          <a:srcRect l="0" t="0" r="0" b="38929"/>
          <a:stretch/>
        </p:blipFill>
        <p:spPr>
          <a:xfrm>
            <a:off x="2895480" y="682560"/>
            <a:ext cx="3084480" cy="2046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28600" y="123336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ithout paper, how can we get knowledg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2" descr="t01ff0478760c7f7a8a.jpg"/>
          <p:cNvPicPr/>
          <p:nvPr/>
        </p:nvPicPr>
        <p:blipFill>
          <a:blip r:embed="rId1"/>
          <a:srcRect l="0" t="13889" r="0" b="0"/>
          <a:stretch/>
        </p:blipFill>
        <p:spPr>
          <a:xfrm>
            <a:off x="2057400" y="3079800"/>
            <a:ext cx="4952880" cy="3321000"/>
          </a:xfrm>
          <a:prstGeom prst="rect">
            <a:avLst/>
          </a:prstGeom>
          <a:ln w="0">
            <a:noFill/>
          </a:ln>
        </p:spPr>
      </p:pic>
      <p:sp>
        <p:nvSpPr>
          <p:cNvPr id="48" name="矩形 3"/>
          <p:cNvSpPr/>
          <p:nvPr/>
        </p:nvSpPr>
        <p:spPr>
          <a:xfrm>
            <a:off x="2594160" y="2057400"/>
            <a:ext cx="354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y telling sto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3" descr="t01d66cedd9322d8ed0.jpg"/>
          <p:cNvPicPr/>
          <p:nvPr/>
        </p:nvPicPr>
        <p:blipFill>
          <a:blip r:embed="rId1"/>
          <a:srcRect l="0" t="0" r="0" b="9425"/>
          <a:stretch/>
        </p:blipFill>
        <p:spPr>
          <a:xfrm>
            <a:off x="1523880" y="152280"/>
            <a:ext cx="6077160" cy="3886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52280" y="42670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ina was the first conutry that invented paper in Han Dynasty. It changed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5105520" y="1600200"/>
            <a:ext cx="3806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hand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手；手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on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继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31480" y="3811680"/>
            <a:ext cx="4645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ancient times,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ote  word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write one book, th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ually _________wri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a long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C:\Users\Ranan\Desktop\新建文件夹\01300000210281121902875581215.jpg01300000210281121902875581215"/>
          <p:cNvPicPr/>
          <p:nvPr/>
        </p:nvPicPr>
        <p:blipFill>
          <a:blip r:embed="rId1"/>
          <a:stretch/>
        </p:blipFill>
        <p:spPr>
          <a:xfrm>
            <a:off x="380880" y="752400"/>
            <a:ext cx="4267440" cy="2838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5105520" y="458640"/>
            <a:ext cx="35812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s and phr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362320" y="4343400"/>
            <a:ext cx="159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y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752120" y="541008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kept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2680" y="4038120"/>
            <a:ext cx="4417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a 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______ technology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was possible to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6446-12021211345176"/>
          <p:cNvPicPr/>
          <p:nvPr/>
        </p:nvPicPr>
        <p:blipFill>
          <a:blip r:embed="rId1"/>
          <a:stretch/>
        </p:blipFill>
        <p:spPr>
          <a:xfrm>
            <a:off x="380880" y="609480"/>
            <a:ext cx="4267440" cy="31244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5032440" y="1828800"/>
            <a:ext cx="3806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dern     adj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代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nting press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印刷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s on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hand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手；手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on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继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05520" y="458640"/>
            <a:ext cx="35812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s and phr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058120" y="3962520"/>
            <a:ext cx="26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rinting p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371600" y="441972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od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572360" y="304812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3581280" y="48783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457560" y="5410080"/>
            <a:ext cx="61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3814920"/>
            <a:ext cx="426744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now a new ki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 books _________: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book(e-book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is easier for peopl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y and _____ on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C:\Users\Ranan\Desktop\新建文件夹\67B75C2F2892EC35F5E79BF51BE35344.jpg67B75C2F2892EC35F5E79BF51BE35344"/>
          <p:cNvPicPr/>
          <p:nvPr/>
        </p:nvPicPr>
        <p:blipFill>
          <a:blip r:embed="rId1"/>
          <a:srcRect l="5981" t="5810" r="8425" b="8177"/>
          <a:stretch/>
        </p:blipFill>
        <p:spPr>
          <a:xfrm>
            <a:off x="304920" y="457200"/>
            <a:ext cx="4398840" cy="32194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5105520" y="458640"/>
            <a:ext cx="35812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s and phr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057400" y="427032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ppe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305280" y="4803840"/>
            <a:ext cx="18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572360" y="304812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2057400" y="594504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5032440" y="1828800"/>
            <a:ext cx="3806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den     adj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代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nting press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印刷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s on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传递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5032440" y="1828800"/>
            <a:ext cx="3806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ear       v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ctronic   adj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子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nting press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印刷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s on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hand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手；手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on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继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ad the passage and answer 3 ques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2760" y="1752120"/>
            <a:ext cx="8836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ts val="36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How did people pass on their knowledge  without books in ancient ti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6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6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What made it possible to print books quick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6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6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What kind of books quickly changed people’s reading hab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685800" y="2743200"/>
            <a:ext cx="6705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36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By telling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printing p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6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"/>
          <p:cNvSpPr/>
          <p:nvPr/>
        </p:nvSpPr>
        <p:spPr>
          <a:xfrm>
            <a:off x="438120" y="5389560"/>
            <a:ext cx="6121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ts val="36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The  electronic books(e-book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6"/>
          <p:cNvSpPr/>
          <p:nvPr/>
        </p:nvSpPr>
        <p:spPr>
          <a:xfrm>
            <a:off x="0" y="2362320"/>
            <a:ext cx="738972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306360" y="9907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ead Passage1, 2 and 3 again and fill in the blan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1523880" y="2666880"/>
            <a:ext cx="7010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ith paper, people began to _____ _______ their stories. People wrote each word ________. It took a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me to write one book.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uldn’t travel 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/>
          <p:cNvSpPr/>
          <p:nvPr/>
        </p:nvSpPr>
        <p:spPr>
          <a:xfrm>
            <a:off x="6095880" y="43419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961800" y="3807000"/>
            <a:ext cx="17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y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7615080" y="3807000"/>
            <a:ext cx="9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7467480" y="273996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1903320" y="3273480"/>
            <a:ext cx="11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4800600" y="4950000"/>
            <a:ext cx="7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2:27:19Z</dcterms:created>
  <dc:creator> </dc:creator>
  <dc:description> </dc:description>
  <dc:language>en-US</dc:language>
  <cp:lastModifiedBy>Administrator</cp:lastModifiedBy>
  <dcterms:modified xsi:type="dcterms:W3CDTF">2019-01-02T02:27:36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